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786-0DD8-4CD6-BF02-6A1252D1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9132-FF89-45C4-AF26-C26F3030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6C78-EE4D-4FB3-943E-82DE984C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9A36-025F-448A-94DD-962A31B7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65C0-060D-4973-A173-B9A7EB56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FE2F-A469-4DBB-9FA2-10D1FE89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152E-E0A8-4CD0-985E-952AB2D7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00D7-FE8C-452A-8BE6-E4691DBB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B87D-924E-40A4-988C-07FFBB79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BDBA-E71F-42FF-B712-F3186328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9953-EBDA-4653-BD1B-1A4C29E3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99E7-E1A4-49CC-B635-32F4B4FF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BE35-B8D5-45B6-8AD8-D81002AC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F56F-0EDD-41FB-A908-6E753254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7E33-AC94-45C2-8DF3-2A6F1BFE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6EAB-0EE3-49F8-B251-A7489FC3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4483-D8C3-4768-BA9B-54AAA137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8FA7-2A6E-43F0-812C-C4166968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B340-76AF-4922-A473-EADE10A0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3927-502E-4570-B1D4-6A72DC23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256-B29E-4A5D-87DC-4C30951E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37E1-6A9D-4183-BDA1-6694378C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BBB0-7070-4C25-A9FF-0AA5317D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24EF-7283-41F4-BF11-335DC11C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3104-54A0-4E10-9A90-097E9779BB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25DD-B29F-4DD8-9C47-223D679B7C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ell Ring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you think it is important for scientists to study cells and understand how they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mpound Light Microscop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040" y="1599840"/>
            <a:ext cx="5181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ical light microscope allows light to pass through a specimen and uses two lenses to form an im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lens = Objective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ns = Ocular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400800" y="2438280"/>
            <a:ext cx="2146320" cy="3772080"/>
          </a:xfrm>
          <a:prstGeom prst="rect">
            <a:avLst/>
          </a:prstGeom>
          <a:ln w="0">
            <a:noFill/>
          </a:ln>
        </p:spPr>
      </p:pic>
      <p:cxnSp>
        <p:nvCxnSpPr>
          <p:cNvPr id="122" name="Straight Arrow Connector 6"/>
          <p:cNvCxnSpPr/>
          <p:nvPr/>
        </p:nvCxnSpPr>
        <p:spPr>
          <a:xfrm>
            <a:off x="5562720" y="3809880"/>
            <a:ext cx="1372320" cy="76680"/>
          </a:xfrm>
          <a:prstGeom prst="straightConnector1">
            <a:avLst/>
          </a:prstGeom>
          <a:ln w="38160">
            <a:solidFill>
              <a:srgbClr val="e70000"/>
            </a:solidFill>
            <a:miter/>
            <a:tailEnd len="med" type="arrow" w="med"/>
          </a:ln>
        </p:spPr>
      </p:cxnSp>
      <p:cxnSp>
        <p:nvCxnSpPr>
          <p:cNvPr id="123" name="Straight Arrow Connector 8"/>
          <p:cNvCxnSpPr/>
          <p:nvPr/>
        </p:nvCxnSpPr>
        <p:spPr>
          <a:xfrm flipV="1">
            <a:off x="5791320" y="2894760"/>
            <a:ext cx="1829520" cy="16009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ell Stai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040" y="16002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roblem with light microscopy is that most cells are nearly trans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view the cells scientists use chemical stains or d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ion cells stained with methylene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5867280" y="2895480"/>
            <a:ext cx="3057480" cy="2505240"/>
          </a:xfrm>
          <a:prstGeom prst="rect">
            <a:avLst/>
          </a:prstGeom>
          <a:ln w="0">
            <a:noFill/>
          </a:ln>
        </p:spPr>
      </p:pic>
      <p:cxnSp>
        <p:nvCxnSpPr>
          <p:cNvPr id="127" name="Straight Arrow Connector 5"/>
          <p:cNvCxnSpPr/>
          <p:nvPr/>
        </p:nvCxnSpPr>
        <p:spPr>
          <a:xfrm flipV="1">
            <a:off x="5105520" y="4799880"/>
            <a:ext cx="762480" cy="6102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lectron Microscop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352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to study cellular structures that are as small as 1 billionth of a meter in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resolution (clarity) than light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major types of electron microscop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mission Electron Microscope (TE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nning Electron Microscope (SE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77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Transmission Electron Microscopes (TEM)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3520" y="15998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it possible to explore cell structures and large protein molec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men must be cut into ultrathin slices so that the beam of electrons can pass through. (Appears 2 Dimens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Mitochondria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(TEM)                            Nucleus (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990720" y="4724280"/>
            <a:ext cx="2817720" cy="1905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5334120" y="4724280"/>
            <a:ext cx="2163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277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Scanning Electron Microscopes (SEM)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520" y="15998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m of electrons is scanned over the surface of a speci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ning electron microscopes produce stunning 3 dimensional images of the specimen’s su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Pollen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(SEM)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295280" y="4724280"/>
            <a:ext cx="2398680" cy="1828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4267080" y="4267080"/>
            <a:ext cx="4006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ypes of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come in a variety of shapes and siz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fall into two broad categories, depending on whether they contain a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rokaryo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Cells that do not enclose DNA in a nucleus. Ex. bac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ukaryo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Cells that enclose their DNA in a nucleus. Ex. Plants, animals, and prot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types of cells contain DNA, cytoplasm, and cell membr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karyotes and Eukaryo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1" name="Content Placeholder 3" descr=""/>
          <p:cNvPicPr/>
          <p:nvPr/>
        </p:nvPicPr>
        <p:blipFill>
          <a:blip r:embed="rId1"/>
          <a:srcRect l="0" t="-10598" r="0" b="-10598"/>
          <a:stretch/>
        </p:blipFill>
        <p:spPr>
          <a:xfrm>
            <a:off x="914400" y="1600200"/>
            <a:ext cx="78487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karyo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karyotic cells are generally smaller and simpler than eukaryotic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pite their simplicity, they carry out every activity associated with liv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grow, reproduce, respond to the environment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single-celled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ukaryo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larger and more complex than pro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ukaryotic cells contain dozens of structures and internal membranes, and many are highly special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karyotes can be single-celled (protists) or multicellular (animals and pl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LANT CEL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7" name="Object 3"/>
          <p:cNvGraphicFramePr/>
          <p:nvPr/>
        </p:nvGraphicFramePr>
        <p:xfrm>
          <a:off x="1066680" y="1523880"/>
          <a:ext cx="7467840" cy="525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7467840" cy="525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ell Ring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how cells work is the same thing as understanding how life 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ngs cells do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Energy (AT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d molecules (Proteins, carbohydrates, lipi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internal conditions (Homeostas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s exchange (CO2 and O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d more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IMAL CEL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0" name="Object 3"/>
          <p:cNvGraphicFramePr/>
          <p:nvPr/>
        </p:nvGraphicFramePr>
        <p:xfrm>
          <a:off x="762120" y="1576440"/>
          <a:ext cx="838188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76440"/>
                    <a:ext cx="838188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4038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ell Structure and Function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52388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sb02522"/>
          <p:cNvPicPr/>
          <p:nvPr/>
        </p:nvPicPr>
        <p:blipFill>
          <a:blip r:embed="rId1"/>
          <a:stretch/>
        </p:blipFill>
        <p:spPr>
          <a:xfrm>
            <a:off x="2362320" y="0"/>
            <a:ext cx="45720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aily Obj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state the 3 parts of the cell the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the different types of microscope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 between prokaryotes and eukary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54100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= Basic unit of lif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ll life is composed of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ells can be many different sizes (always sma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3017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arly Scientis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 van Leeuwenh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 tiny living organisms in water using a micro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one of the first to use a microscope to study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Ho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light microscope to look at thin slices of plant t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w thousands of tiny chambers and called them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cork"/>
          <p:cNvPicPr/>
          <p:nvPr/>
        </p:nvPicPr>
        <p:blipFill>
          <a:blip r:embed="rId1"/>
          <a:stretch/>
        </p:blipFill>
        <p:spPr>
          <a:xfrm>
            <a:off x="5762520" y="1371600"/>
            <a:ext cx="299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arly Scientis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5715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0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hias Schl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ded all plants are made of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dor Schw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ded all animals are made of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dolf Virc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ells can only be produced from the division of existing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324480" y="2209680"/>
            <a:ext cx="2463840" cy="18478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Cell Theo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ell Theo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living things are composed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are the basic unit of structure and function in 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ells are produced from existin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ploring the Cel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14400" y="1599840"/>
            <a:ext cx="69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icroscope produces an enlarged image of something very sm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microscopes use lenses to magnify the image of an object by focusing light or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copes available today are much better than early microscopes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Show vid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2:01:41Z</dcterms:created>
  <dc:creator>Stephanie Wertkin</dc:creator>
  <dc:description/>
  <dc:language>en-US</dc:language>
  <cp:lastModifiedBy>Dustin Zahm</cp:lastModifiedBy>
  <dcterms:modified xsi:type="dcterms:W3CDTF">2012-11-26T03:25:56Z</dcterms:modified>
  <cp:revision>50</cp:revision>
  <dc:subject/>
  <dc:title>Cell Structure and Function</dc:title>
</cp:coreProperties>
</file>